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691-8D44-45FE-97F8-01965FD9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D7A-D53A-4BF8-B236-0202CF7D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D35-3DEF-4CEB-9F47-8F4A7437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297-E15F-4F57-B8E3-FDD0F87D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5F3-63AC-46F3-A76B-B4DA9D87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9E4-6566-485D-927A-9A9695E6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104-10EC-4B2B-A3F1-C421AF2D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CBF-64A0-4CA1-A0E1-FDD02508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C1A-4DA7-4840-9F0B-0C03C68A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04B-46F1-4907-AF3A-047E01C9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3A2-75AA-44B4-9239-E136C15B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89F-F71E-4B9D-8D87-C2A2A624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4320-D343-44D0-8345-C2B1756AA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43280" y="0"/>
            <a:ext cx="52578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1792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63400"/>
            <a:ext cx="9144000" cy="5731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10002" r="0" b="6670"/>
          <a:stretch/>
        </p:blipFill>
        <p:spPr>
          <a:xfrm>
            <a:off x="3657600" y="1523880"/>
            <a:ext cx="153684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934320" y="685800"/>
            <a:ext cx="13460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6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717480" cy="106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273320" cy="16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15200" y="533520"/>
            <a:ext cx="91440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3:15:18Z</dcterms:created>
  <dc:creator>Patrick J. Mooney</dc:creator>
  <dc:description/>
  <dc:language>en-US</dc:language>
  <cp:lastModifiedBy>Patrick J. Mooney</cp:lastModifiedBy>
  <dcterms:modified xsi:type="dcterms:W3CDTF">2012-01-29T03:52:49Z</dcterms:modified>
  <cp:revision>9</cp:revision>
  <dc:subject/>
  <dc:title>Slide 1</dc:title>
</cp:coreProperties>
</file>